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2.png" ContentType="image/png"/>
  <Override PartName="/ppt/media/image41.png" ContentType="image/png"/>
  <Override PartName="/ppt/media/image29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9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40.png" ContentType="image/png"/>
  <Override PartName="/ppt/media/image38.gif" ContentType="image/gif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4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089AF-DB89-4C88-B2F3-A319043819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04F58-658B-428C-B48C-5BB6C744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89270-5B36-49D9-8440-6E2598D8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15208-5761-4CE3-9E1C-ACE9A41C0E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49283-618D-457A-891B-7BFD8733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2B746-EA32-4CAC-AF9D-073FBA65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EC0C7-89E8-4C4C-BC87-A628C3EB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0E728-6BF6-41F5-9326-9F8860F4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5BB77-4B6A-4A6E-BBC7-27B65447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CBE1B-5C52-46D7-AB5C-E9EADEDD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0A6BC-7BCD-498D-B3E8-11E2706B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E05C5-C16A-42C2-B5B0-1FB927D9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C345-D582-4354-94C5-1F88E6F1F3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呼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四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膜腔和胸膜腔内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32108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apleural pressur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是指胸膜腔内的压力，习惯上称为胸膜腔负压（视大气压为零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1332000" y="2367000"/>
            <a:ext cx="676908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33360" y="2214720"/>
            <a:ext cx="733320" cy="1366560"/>
          </a:xfrm>
          <a:custGeom>
            <a:avLst/>
            <a:gdLst>
              <a:gd name="textAreaLeft" fmla="*/ 98280 w 733320"/>
              <a:gd name="textAreaRight" fmla="*/ 635040 w 733320"/>
              <a:gd name="textAreaTop" fmla="*/ 239040 h 1366560"/>
              <a:gd name="textAreaBottom" fmla="*/ 990720 h 136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333360" y="35863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304920" y="4805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2452680" y="5562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AutoShape 6"/>
          <p:cNvSpPr/>
          <p:nvPr/>
        </p:nvSpPr>
        <p:spPr>
          <a:xfrm rot="10825200">
            <a:off x="4114080" y="2214360"/>
            <a:ext cx="4876920" cy="3276360"/>
          </a:xfrm>
          <a:custGeom>
            <a:avLst/>
            <a:gdLst>
              <a:gd name="textAreaLeft" fmla="*/ 1015920 w 4876920"/>
              <a:gd name="textAreaRight" fmla="*/ 3861000 w 4876920"/>
              <a:gd name="textAreaTop" fmla="*/ 682560 h 3276360"/>
              <a:gd name="textAreaBottom" fmla="*/ 259380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AutoShape 7"/>
          <p:cNvSpPr/>
          <p:nvPr/>
        </p:nvSpPr>
        <p:spPr>
          <a:xfrm rot="10825200">
            <a:off x="4495320" y="2436480"/>
            <a:ext cx="4114800" cy="2894040"/>
          </a:xfrm>
          <a:custGeom>
            <a:avLst/>
            <a:gdLst>
              <a:gd name="textAreaLeft" fmla="*/ 857160 w 4114800"/>
              <a:gd name="textAreaRight" fmla="*/ 3257640 w 4114800"/>
              <a:gd name="textAreaTop" fmla="*/ 603000 h 2894040"/>
              <a:gd name="textAreaBottom" fmla="*/ 2291400 h 289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5181480" y="3809880"/>
            <a:ext cx="53352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6553080" y="2514600"/>
            <a:ext cx="0" cy="9907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Line 10"/>
          <p:cNvSpPr/>
          <p:nvPr/>
        </p:nvSpPr>
        <p:spPr>
          <a:xfrm flipH="1">
            <a:off x="7391520" y="3809880"/>
            <a:ext cx="45720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Line 11"/>
          <p:cNvSpPr/>
          <p:nvPr/>
        </p:nvSpPr>
        <p:spPr>
          <a:xfrm flipV="1">
            <a:off x="6553080" y="3962160"/>
            <a:ext cx="0" cy="114300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4343400" y="5181480"/>
            <a:ext cx="0" cy="5335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WordArt 13"/>
          <p:cNvSpPr txBox="1"/>
          <p:nvPr/>
        </p:nvSpPr>
        <p:spPr>
          <a:xfrm>
            <a:off x="5867280" y="342900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肺回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aphicFrame>
        <p:nvGraphicFramePr>
          <p:cNvPr id="147" name="Object 14"/>
          <p:cNvGraphicFramePr/>
          <p:nvPr/>
        </p:nvGraphicFramePr>
        <p:xfrm>
          <a:off x="3924360" y="333360"/>
          <a:ext cx="526716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333360"/>
                    <a:ext cx="52671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15"/>
          <p:cNvSpPr/>
          <p:nvPr/>
        </p:nvSpPr>
        <p:spPr>
          <a:xfrm>
            <a:off x="2124360" y="1981080"/>
            <a:ext cx="307908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胸膜腔密闭且含浆液为条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生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生长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容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容积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将肺拉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回缩             胸内负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1600200" y="1295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533520" y="380880"/>
            <a:ext cx="3352680" cy="14479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胸膜腔负压的形成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1447920" y="1219320"/>
            <a:ext cx="7596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3" name="Oval 19"/>
          <p:cNvSpPr/>
          <p:nvPr/>
        </p:nvSpPr>
        <p:spPr>
          <a:xfrm>
            <a:off x="539640" y="1341360"/>
            <a:ext cx="441972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4" name="Oval 20"/>
          <p:cNvSpPr/>
          <p:nvPr/>
        </p:nvSpPr>
        <p:spPr>
          <a:xfrm>
            <a:off x="0" y="457200"/>
            <a:ext cx="4267080" cy="1523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715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负压的产生原理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回缩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吸气末或呼气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0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 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5" descr="胸膜腔负压的形成2"/>
          <p:cNvPicPr/>
          <p:nvPr/>
        </p:nvPicPr>
        <p:blipFill>
          <a:blip r:embed="rId1"/>
          <a:stretch/>
        </p:blipFill>
        <p:spPr>
          <a:xfrm>
            <a:off x="4932360" y="335772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胸膜腔负压的形成1"/>
          <p:cNvPicPr/>
          <p:nvPr/>
        </p:nvPicPr>
        <p:blipFill>
          <a:blip r:embed="rId2"/>
          <a:stretch/>
        </p:blipFill>
        <p:spPr>
          <a:xfrm>
            <a:off x="396720" y="2997360"/>
            <a:ext cx="4064040" cy="34542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/>
          <p:cNvSpPr/>
          <p:nvPr/>
        </p:nvSpPr>
        <p:spPr>
          <a:xfrm>
            <a:off x="4356000" y="4294080"/>
            <a:ext cx="576360" cy="72072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000"/>
                </a:solidFill>
                <a:latin typeface="宋体"/>
                <a:ea typeface="宋体"/>
              </a:rPr>
              <a:t>胸膜腔形成原理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-33480" y="1844640"/>
            <a:ext cx="9141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内压                               肺回缩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大气压）      （肺组织弹性回缩力和肺泡表面张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迫使脏层胸膜外移使肺扩张      迫使脏层胸膜回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方向相反作用力的代数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大气压＋（－肺回缩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肺回缩力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133200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673272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1763640" y="3645000"/>
            <a:ext cx="1368360" cy="863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Line 8"/>
          <p:cNvSpPr/>
          <p:nvPr/>
        </p:nvSpPr>
        <p:spPr>
          <a:xfrm flipH="1">
            <a:off x="4716360" y="3716280"/>
            <a:ext cx="1511280" cy="79236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胸膜腔负压的生理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7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持肺的扩张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使肺随胸廓运动而被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静脉血和淋巴液的回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胸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qixiong"/>
          <p:cNvPicPr/>
          <p:nvPr/>
        </p:nvPicPr>
        <p:blipFill>
          <a:blip r:embed="rId1"/>
          <a:srcRect l="0" t="0" r="0" b="7942"/>
          <a:stretch/>
        </p:blipFill>
        <p:spPr>
          <a:xfrm>
            <a:off x="2854440" y="3645000"/>
            <a:ext cx="3157560" cy="22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56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二节  肺 通 气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ulmonary ventilation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肺通气的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的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4938120" y="1773360"/>
            <a:ext cx="1674360" cy="1895400"/>
            <a:chOff x="4938120" y="1773360"/>
            <a:chExt cx="1674360" cy="1895400"/>
          </a:xfrm>
        </p:grpSpPr>
        <p:sp>
          <p:nvSpPr>
            <p:cNvPr id="171" name="Text Box 5"/>
            <p:cNvSpPr/>
            <p:nvPr/>
          </p:nvSpPr>
          <p:spPr>
            <a:xfrm>
              <a:off x="4938120" y="1773360"/>
              <a:ext cx="16743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呼吸肌舒缩活动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2" name="Text Box 6"/>
            <p:cNvSpPr/>
            <p:nvPr/>
          </p:nvSpPr>
          <p:spPr>
            <a:xfrm>
              <a:off x="5158440" y="3148200"/>
              <a:ext cx="82080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原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3" name="AutoShape 7"/>
            <p:cNvSpPr/>
            <p:nvPr/>
          </p:nvSpPr>
          <p:spPr>
            <a:xfrm>
              <a:off x="5545800" y="2430720"/>
              <a:ext cx="152280" cy="761760"/>
            </a:xfrm>
            <a:prstGeom prst="downArrow">
              <a:avLst>
                <a:gd name="adj1" fmla="val 50000"/>
                <a:gd name="adj2" fmla="val 12505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174" name="Group 8"/>
          <p:cNvGrpSpPr/>
          <p:nvPr/>
        </p:nvGrpSpPr>
        <p:grpSpPr>
          <a:xfrm>
            <a:off x="4866120" y="4076640"/>
            <a:ext cx="2527560" cy="2065320"/>
            <a:chOff x="4866120" y="4076640"/>
            <a:chExt cx="2527560" cy="2065320"/>
          </a:xfrm>
        </p:grpSpPr>
        <p:sp>
          <p:nvSpPr>
            <p:cNvPr id="175" name="Text Box 9"/>
            <p:cNvSpPr/>
            <p:nvPr/>
          </p:nvSpPr>
          <p:spPr>
            <a:xfrm>
              <a:off x="4866120" y="4076640"/>
              <a:ext cx="25275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肺内压与大气压的压力差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5124600" y="5621400"/>
              <a:ext cx="103428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直接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7" name="AutoShape 11"/>
            <p:cNvSpPr/>
            <p:nvPr/>
          </p:nvSpPr>
          <p:spPr>
            <a:xfrm>
              <a:off x="5668920" y="4815000"/>
              <a:ext cx="152280" cy="838080"/>
            </a:xfrm>
            <a:prstGeom prst="downArrow">
              <a:avLst>
                <a:gd name="adj1" fmla="val 50000"/>
                <a:gd name="adj2" fmla="val 13758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肌收缩和舒张引起的胸廓节律性扩大和缩小称为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呼吸运动胸廓运动的变化"/>
          <p:cNvPicPr/>
          <p:nvPr/>
        </p:nvPicPr>
        <p:blipFill>
          <a:blip r:embed="rId1"/>
          <a:stretch/>
        </p:blipFill>
        <p:spPr>
          <a:xfrm>
            <a:off x="2629080" y="2637000"/>
            <a:ext cx="4392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190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呼吸运动形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6048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式呼吸和胸式呼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腹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dominal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膈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胸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oracic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肋间外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呼气运动1.avi" descr=""/>
          <p:cNvPicPr/>
          <p:nvPr/>
        </p:nvPicPr>
        <p:blipFill>
          <a:blip r:embed="rId1"/>
          <a:stretch/>
        </p:blipFill>
        <p:spPr>
          <a:xfrm>
            <a:off x="6300720" y="1486080"/>
            <a:ext cx="2808360" cy="48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23534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4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呼吸的原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1609560" y="2492280"/>
            <a:ext cx="59248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75760"/>
            <a:ext cx="8640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第一节  概 述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Introduction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呼吸的概念及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3348000" y="554184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08" name="Picture 42" descr=""/>
          <p:cNvPicPr/>
          <p:nvPr/>
        </p:nvPicPr>
        <p:blipFill>
          <a:blip r:embed="rId1"/>
          <a:stretch/>
        </p:blipFill>
        <p:spPr>
          <a:xfrm>
            <a:off x="252360" y="1701720"/>
            <a:ext cx="84978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通气的阻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1966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肺通气阻力图片.avi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6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阻力与顺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弹性阻力的概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的弹性阻力即肺回缩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组织的弹性回缩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廓的弹性阻力即胸廓的弹性回位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方向随胸廓的位置而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plianc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在外力作用下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的可扩张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容易扩张者顺应性大，不易扩张者顺应性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与弹性阻力呈反变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弹性阻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和组织黏滞阻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只在呼吸运动时产生：流速快、阻力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体流动形式有关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道半径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方成反比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∝1/r4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539640" y="1628640"/>
            <a:ext cx="878544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潮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idal volum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~6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吸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反映吸气的储备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~20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深吸气量：补吸气量和潮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呼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iratory reserve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0 ~12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残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idual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 ~15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功能残气量：残气量和补呼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肺活量和用力呼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33520" y="25704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e6ade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</a:rPr>
              <a:t>肺通气功能的评价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39640" y="1125360"/>
            <a:ext cx="43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肺容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324000" y="1270080"/>
            <a:ext cx="838656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肺活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tal capacit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单次肺通气的最大能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男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00 ml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00 ml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用力呼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d expiratory volum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力最大吸气后再尽力尽快呼气时，在一定时间内所能呼出的气量，占用力肺活量的百分数，分别称为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的用力呼气量。正常人分别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209520" y="1185840"/>
            <a:ext cx="861048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843280" y="40464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用力肺活量和用力呼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96" name="Picture 3" descr="008"/>
          <p:cNvPicPr/>
          <p:nvPr/>
        </p:nvPicPr>
        <p:blipFill>
          <a:blip r:embed="rId1">
            <a:lum bright="-100000"/>
          </a:blip>
          <a:srcRect l="0" t="3077" r="0" b="0"/>
          <a:stretch/>
        </p:blipFill>
        <p:spPr>
          <a:xfrm>
            <a:off x="250920" y="981000"/>
            <a:ext cx="6700680" cy="53294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2627280" y="1125360"/>
            <a:ext cx="23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生理情况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484360" y="3860640"/>
            <a:ext cx="24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气道狭窄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940360" y="1413000"/>
            <a:ext cx="2808360" cy="1689480"/>
          </a:xfrm>
          <a:prstGeom prst="rect">
            <a:avLst/>
          </a:prstGeom>
          <a:solidFill>
            <a:srgbClr val="8ac8de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83%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6% 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9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179280" y="1341360"/>
            <a:ext cx="9001080" cy="35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通气量和最大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每分通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ute ventilation volum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~9 L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基础状态下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最大通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~120 L/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贮备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气贮量百分比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00%</a:t>
            </a: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                                </a:t>
            </a:r>
            <a:endParaRPr b="0" lang="en-US" sz="3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995640" y="4633920"/>
            <a:ext cx="3605400" cy="190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696920" y="4125960"/>
            <a:ext cx="21711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 － 每分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692960" y="4602240"/>
            <a:ext cx="152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1619280" y="5013360"/>
            <a:ext cx="31687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正常：等于或﹥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3%</a:t>
            </a:r>
            <a:endParaRPr b="0" lang="en-US" sz="2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755640" y="33336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二）肺通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168360" y="3890880"/>
            <a:ext cx="497844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近于零）</a:t>
            </a:r>
            <a:r>
              <a:rPr b="1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68360" y="3244680"/>
            <a:ext cx="24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理无效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132000" y="2781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剖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900000" y="4581360"/>
            <a:ext cx="7004160" cy="168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扩张       解剖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梗塞      肺泡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ddb52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3060720" y="4726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3060720" y="5302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3124080" y="2057400"/>
            <a:ext cx="152640" cy="121932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3" name="AutoShape 10"/>
          <p:cNvSpPr/>
          <p:nvPr/>
        </p:nvSpPr>
        <p:spPr>
          <a:xfrm>
            <a:off x="2916360" y="295128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376200" y="1287360"/>
            <a:ext cx="772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泡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钟吸入肺泡的新鲜空气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 无效腔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11280" y="11224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为什么浅而快的呼吸对机体不利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呼吸频率和潮气量时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和肺泡通气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Line 3"/>
          <p:cNvSpPr/>
          <p:nvPr/>
        </p:nvSpPr>
        <p:spPr>
          <a:xfrm>
            <a:off x="755640" y="270972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826920" y="3933720"/>
            <a:ext cx="763272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900000" y="573408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900000" y="29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呼吸频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2700360" y="2924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潮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4356000" y="2924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6227640" y="2924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泡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971640" y="35002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分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)          (ml )            (ml /min )        (ml /min )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971640" y="4221000"/>
            <a:ext cx="70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12                 500                 6000                 42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6                 1000                 6000                 51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4                250                  6000                 24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二、呼吸器官的结构特点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2360" y="134136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Picture 5" descr="呼吸道结构"/>
          <p:cNvPicPr/>
          <p:nvPr/>
        </p:nvPicPr>
        <p:blipFill>
          <a:blip r:embed="rId1"/>
          <a:stretch/>
        </p:blipFill>
        <p:spPr>
          <a:xfrm>
            <a:off x="179280" y="1773360"/>
            <a:ext cx="4392720" cy="396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气管分级"/>
          <p:cNvPicPr/>
          <p:nvPr/>
        </p:nvPicPr>
        <p:blipFill>
          <a:blip r:embed="rId2"/>
          <a:srcRect l="0" t="0" r="0" b="12035"/>
          <a:stretch/>
        </p:blipFill>
        <p:spPr>
          <a:xfrm>
            <a:off x="4572000" y="1557360"/>
            <a:ext cx="426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三节  肺换气和组织换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呼吸的3个环节.avi" descr=""/>
          <p:cNvPicPr/>
          <p:nvPr/>
        </p:nvPicPr>
        <p:blipFill>
          <a:blip r:embed="rId1"/>
          <a:stretch/>
        </p:blipFill>
        <p:spPr>
          <a:xfrm>
            <a:off x="4356000" y="1484280"/>
            <a:ext cx="4654800" cy="47037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250920" y="2363760"/>
            <a:ext cx="439236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肺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肺泡与肺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组织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组织细胞与组织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23000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6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一、气体交换的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气体分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80880" y="2719440"/>
            <a:ext cx="83822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气体扩散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相同的气体分压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396720" y="4365720"/>
            <a:ext cx="84963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刺激呼吸，有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排出，却几乎无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摄取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847800" y="3032280"/>
                <a:ext cx="75009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4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0" y="1905120"/>
            <a:ext cx="4191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基础：呼吸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力：气体的分压差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0" y="34290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1332000" y="3718080"/>
            <a:ext cx="1143000" cy="0"/>
          </a:xfrm>
          <a:prstGeom prst="line">
            <a:avLst/>
          </a:prstGeom>
          <a:ln w="63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7" name="Picture 6" descr="肺泡气体交换2"/>
          <p:cNvPicPr/>
          <p:nvPr/>
        </p:nvPicPr>
        <p:blipFill>
          <a:blip r:embed="rId1"/>
          <a:stretch/>
        </p:blipFill>
        <p:spPr>
          <a:xfrm>
            <a:off x="228600" y="4191120"/>
            <a:ext cx="3809880" cy="2286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1773360" y="108576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9" name="Picture 10" descr="肺换气1"/>
          <p:cNvPicPr/>
          <p:nvPr/>
        </p:nvPicPr>
        <p:blipFill>
          <a:blip r:embed="rId2"/>
          <a:stretch/>
        </p:blipFill>
        <p:spPr>
          <a:xfrm>
            <a:off x="4140360" y="1054080"/>
            <a:ext cx="4752720" cy="5327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8"/>
          <p:cNvSpPr/>
          <p:nvPr/>
        </p:nvSpPr>
        <p:spPr>
          <a:xfrm>
            <a:off x="973080" y="404640"/>
            <a:ext cx="78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肺换气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一）肺换气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324000" y="888840"/>
            <a:ext cx="842472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1022400" y="260280"/>
            <a:ext cx="8229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影响肺换气的因素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158760" y="1482840"/>
            <a:ext cx="77263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厚度和面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μm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5" name="Picture 9" descr=""/>
          <p:cNvPicPr/>
          <p:nvPr/>
        </p:nvPicPr>
        <p:blipFill>
          <a:blip r:embed="rId1"/>
          <a:stretch/>
        </p:blipFill>
        <p:spPr>
          <a:xfrm>
            <a:off x="304920" y="2349360"/>
            <a:ext cx="75801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0" y="1486080"/>
            <a:ext cx="45720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静呼吸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备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实变、肺气肿及肺不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面积减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7" name="Picture 9" descr="xh141"/>
          <p:cNvPicPr/>
          <p:nvPr/>
        </p:nvPicPr>
        <p:blipFill>
          <a:blip r:embed="rId1"/>
          <a:srcRect l="54239" t="4199" r="0" b="2423"/>
          <a:stretch/>
        </p:blipFill>
        <p:spPr>
          <a:xfrm>
            <a:off x="4211640" y="1268280"/>
            <a:ext cx="4284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气血流比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entilation/perfusion ratio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分肺泡通气量与每分钟肺毛细血管血流量之间的比值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84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Picture 12" descr="通气血流比值1"/>
          <p:cNvPicPr/>
          <p:nvPr/>
        </p:nvPicPr>
        <p:blipFill>
          <a:blip r:embed="rId1"/>
          <a:stretch/>
        </p:blipFill>
        <p:spPr>
          <a:xfrm>
            <a:off x="2556000" y="2494080"/>
            <a:ext cx="424944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-23976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通气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血流比值改变的影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27876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运输：物理溶解和化学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血红蛋白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液中的氧主要以氧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形式运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迅速而可逆、不需要酶催化、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压的影响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氧合而非氧化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绀：去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＞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 g 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3132000" y="2854440"/>
            <a:ext cx="29624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呼吸道平滑肌舒缩活动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的调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迷走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+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收缩→阻力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感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舒张→阻力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液因素的调节：组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羟色胺、内皮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活性肠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结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容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apacity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能结合的最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浓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含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ontent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际结合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饱和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Oxygensaturation of Hb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二）氧解离曲线及其影响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解离曲线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显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氧饱和度关系的曲线，表示不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合的情况或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58" name="Group 6"/>
          <p:cNvGrpSpPr/>
          <p:nvPr/>
        </p:nvGrpSpPr>
        <p:grpSpPr>
          <a:xfrm>
            <a:off x="1619280" y="2152800"/>
            <a:ext cx="5544720" cy="4676040"/>
            <a:chOff x="1619280" y="2152800"/>
            <a:chExt cx="5544720" cy="4676040"/>
          </a:xfrm>
        </p:grpSpPr>
        <p:pic>
          <p:nvPicPr>
            <p:cNvPr id="259" name="Picture 4" descr="未命名6"/>
            <p:cNvPicPr/>
            <p:nvPr/>
          </p:nvPicPr>
          <p:blipFill>
            <a:blip r:embed="rId1"/>
            <a:stretch/>
          </p:blipFill>
          <p:spPr>
            <a:xfrm>
              <a:off x="2302920" y="2152800"/>
              <a:ext cx="4861080" cy="410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5"/>
            <p:cNvSpPr/>
            <p:nvPr/>
          </p:nvSpPr>
          <p:spPr>
            <a:xfrm rot="16200000">
              <a:off x="-34200" y="4087800"/>
              <a:ext cx="37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Hb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氧饱和度（％）</a:t>
              </a:r>
              <a:endParaRPr b="0" lang="en-US" sz="24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261" name="Text Box 6"/>
            <p:cNvSpPr/>
            <p:nvPr/>
          </p:nvSpPr>
          <p:spPr>
            <a:xfrm>
              <a:off x="4146840" y="6289560"/>
              <a:ext cx="251424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P</a:t>
              </a:r>
              <a:r>
                <a:rPr b="1" lang="en-US" sz="2400" spc="-1" strike="noStrike" baseline="-25000">
                  <a:solidFill>
                    <a:srgbClr val="046ca6"/>
                  </a:solidFill>
                  <a:latin typeface="楷体_GB2312"/>
                  <a:ea typeface="楷体_GB2312"/>
                </a:rPr>
                <a:t>O</a:t>
              </a:r>
              <a:r>
                <a:rPr b="1" lang="en-US" sz="1800" spc="-1" strike="noStrike" baseline="-50000">
                  <a:solidFill>
                    <a:srgbClr val="046ca6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mmHg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）</a:t>
              </a: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0" y="1413000"/>
            <a:ext cx="457200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氧解离曲线的上段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~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的部分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较平坦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变化对氧饱和度影响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63" name="Picture 7" descr="未命名8"/>
          <p:cNvPicPr/>
          <p:nvPr/>
        </p:nvPicPr>
        <p:blipFill>
          <a:blip r:embed="rId1"/>
          <a:stretch/>
        </p:blipFill>
        <p:spPr>
          <a:xfrm>
            <a:off x="4716360" y="1773360"/>
            <a:ext cx="396108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441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中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 ~ 60 mmH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范围内，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特点：较陡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下降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未命名7"/>
          <p:cNvPicPr/>
          <p:nvPr/>
        </p:nvPicPr>
        <p:blipFill>
          <a:blip r:embed="rId1"/>
          <a:stretch/>
        </p:blipFill>
        <p:spPr>
          <a:xfrm>
            <a:off x="4645080" y="1628640"/>
            <a:ext cx="403236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54064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混合静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5%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4ml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动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8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94ml 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表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 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供组织利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生理意义：血液流经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PO2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较低的组织时可释放适的氧，供安静状态下组织代谢的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下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 ~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离的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最陡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未命名9"/>
          <p:cNvPicPr/>
          <p:nvPr/>
        </p:nvPicPr>
        <p:blipFill>
          <a:blip r:embed="rId1"/>
          <a:stretch/>
        </p:blipFill>
        <p:spPr>
          <a:xfrm>
            <a:off x="4861080" y="1844640"/>
            <a:ext cx="38163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539640" y="1268280"/>
            <a:ext cx="807732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稍有下降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释放大量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当组织活动加强时，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量增多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15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混合静脉血）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4ml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表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供组织利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生理意义：组织耗氧量增加时，血液可释放更多的氧供组织需要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氧解离曲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058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血液的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CO</a:t>
            </a:r>
            <a:r>
              <a:rPr b="1" lang="zh-CN" sz="2800" spc="-1" strike="noStrike" baseline="-25000">
                <a:solidFill>
                  <a:srgbClr val="1d149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↑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亲和力降低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曲线右移；反之，曲线左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度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亲和力的影响称为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ohr effe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的生理意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肺毛细血管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利于组织毛细血管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以满足组织代谢的  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-179280" y="569880"/>
            <a:ext cx="9144000" cy="54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温度的影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磷酸甘油酸（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-DPG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-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  <a:ea typeface="宋体"/>
              </a:rPr>
              <a:t>库存血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74" name="Picture 6" descr="5"/>
          <p:cNvPicPr/>
          <p:nvPr/>
        </p:nvPicPr>
        <p:blipFill>
          <a:blip r:embed="rId1"/>
          <a:stretch/>
        </p:blipFill>
        <p:spPr>
          <a:xfrm>
            <a:off x="1547640" y="5445000"/>
            <a:ext cx="108144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与呼吸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泡上皮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肺小叶模式图2"/>
          <p:cNvPicPr/>
          <p:nvPr/>
        </p:nvPicPr>
        <p:blipFill>
          <a:blip r:embed="rId1"/>
          <a:srcRect l="0" t="0" r="0" b="15337"/>
          <a:stretch/>
        </p:blipFill>
        <p:spPr>
          <a:xfrm>
            <a:off x="3637080" y="1701720"/>
            <a:ext cx="49305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900000" y="189000"/>
            <a:ext cx="770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CO</a:t>
            </a:r>
            <a:r>
              <a:rPr b="1" lang="zh-CN" sz="3200" spc="-1" strike="noStrike" baseline="-25000">
                <a:solidFill>
                  <a:srgbClr val="ff0066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的运输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8600" y="1557360"/>
            <a:ext cx="982980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溶解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溶解的量约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总运输量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0" y="4038480"/>
            <a:ext cx="62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化学结合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142160" y="3192480"/>
            <a:ext cx="23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酸氢盐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3733920" y="4572000"/>
            <a:ext cx="36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3581280" y="3505320"/>
            <a:ext cx="152640" cy="152388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576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碳酸氢盐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1676520" y="2492280"/>
            <a:ext cx="55594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1219320" y="3049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第五节  呼吸运动的调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304920" y="157644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中枢神经性调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脑干呼吸中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044960" cy="41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900000" y="1409760"/>
            <a:ext cx="7775640" cy="4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中脑和脑桥之间横切，呼吸无明显变化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脑桥上、中部之间横切，呼吸将变慢变深，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切断双侧迷走神经，则出现长吸式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脑桥和延髓之间横切，长吸式呼吸消失，出现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息样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延髓和脊髓之间横切，呼吸运动停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级呼吸中枢理论：脑桥上部有呼吸调整中枢，中下部有长吸中枢，延髓有呼吸节律基本中枢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252360" y="2276640"/>
            <a:ext cx="85345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背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D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孤束核的腹外侧部，通过脊髓支配膈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腹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V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疑核、后疑核及面神经后核附近的包钦格复合体，通过脊髓支配肋间内、外肌及腹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324000" y="981000"/>
            <a:ext cx="8458200" cy="1447920"/>
          </a:xfrm>
          <a:custGeom>
            <a:avLst/>
            <a:gdLst>
              <a:gd name="textAreaLeft" fmla="*/ 1930680 w 8458200"/>
              <a:gd name="textAreaRight" fmla="*/ 6527520 w 8458200"/>
              <a:gd name="textAreaTop" fmla="*/ 330480 h 1447920"/>
              <a:gd name="textAreaBottom" fmla="*/ 11174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延髓呼吸中枢（调节呼吸活动的基本中枢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呼吸节律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688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机械性反射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肺牵张反射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ring-Breuer refle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肺牵张感受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支气管和细支气管的平滑肌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刺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牵拉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849780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扩张反射：肺扩张时引起吸气抑制的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气    肺扩张    刺激了气道平滑肌的牵张感受器 ，冲动经迷走神经上传延髓 （吸气神经元抑制）   切断吸气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缩小反射：肺萎陷到一定程度时反射性地引起吸气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肺牵张反射的意义：阻止吸气过深过长，促使吸气转为呼气。呼吸频率增加，如果切断动物双侧迷走神经，将出现深而慢的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AutoShape 13"/>
          <p:cNvSpPr/>
          <p:nvPr/>
        </p:nvSpPr>
        <p:spPr>
          <a:xfrm>
            <a:off x="1979640" y="1989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5" name="AutoShape 13"/>
          <p:cNvSpPr/>
          <p:nvPr/>
        </p:nvSpPr>
        <p:spPr>
          <a:xfrm>
            <a:off x="3492360" y="1989000"/>
            <a:ext cx="432000" cy="73080"/>
          </a:xfrm>
          <a:prstGeom prst="rightArrow">
            <a:avLst>
              <a:gd name="adj1" fmla="val 50000"/>
              <a:gd name="adj2" fmla="val 1477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7093080" y="2421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化学反射性调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外周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和主动脉体：感受血液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多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降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升高浓度变化的刺激而兴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对呼吸的刺激作用约为主动脉体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中枢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延髓腹外侧浅表部位感受脑脊液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化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点：不感受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其影响不大，因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难于通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5406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低时，呼吸暂停。血液中维持一定浓度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进行正常呼吸活动的必要条件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吸入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含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04 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即可增加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肺通气量增加一倍；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高明显，呼吸兴奋肺通气量增大不足以排出血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致使体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多，呼吸中枢抑制，头痛、头昏、昏迷的症状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1305000" y="228600"/>
            <a:ext cx="653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二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61084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684360" y="14860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膜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2651040" y="808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02" name="Oval 3"/>
          <p:cNvSpPr/>
          <p:nvPr/>
        </p:nvSpPr>
        <p:spPr>
          <a:xfrm>
            <a:off x="684360" y="1341360"/>
            <a:ext cx="838080" cy="490716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幼圆"/>
                <a:ea typeface="幼圆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两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条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5460840" y="4437000"/>
            <a:ext cx="990360" cy="1750320"/>
            <a:chOff x="5460840" y="4437000"/>
            <a:chExt cx="990360" cy="1750320"/>
          </a:xfrm>
        </p:grpSpPr>
        <p:sp>
          <p:nvSpPr>
            <p:cNvPr id="304" name="Freeform 5"/>
            <p:cNvSpPr/>
            <p:nvPr/>
          </p:nvSpPr>
          <p:spPr>
            <a:xfrm>
              <a:off x="54608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57909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6" name="Freeform 7"/>
            <p:cNvSpPr/>
            <p:nvPr/>
          </p:nvSpPr>
          <p:spPr>
            <a:xfrm>
              <a:off x="61210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07" name="Group 8"/>
          <p:cNvGrpSpPr/>
          <p:nvPr/>
        </p:nvGrpSpPr>
        <p:grpSpPr>
          <a:xfrm>
            <a:off x="3708360" y="5370480"/>
            <a:ext cx="1752120" cy="750600"/>
            <a:chOff x="3708360" y="5370480"/>
            <a:chExt cx="1752120" cy="750600"/>
          </a:xfrm>
        </p:grpSpPr>
        <p:sp>
          <p:nvSpPr>
            <p:cNvPr id="308" name="Freeform 9"/>
            <p:cNvSpPr/>
            <p:nvPr/>
          </p:nvSpPr>
          <p:spPr>
            <a:xfrm>
              <a:off x="3708360" y="53704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4292640" y="5375880"/>
              <a:ext cx="583560" cy="74520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0" name="Freeform 11"/>
            <p:cNvSpPr/>
            <p:nvPr/>
          </p:nvSpPr>
          <p:spPr>
            <a:xfrm>
              <a:off x="4876200" y="53758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1" name="Text Box 12"/>
          <p:cNvSpPr/>
          <p:nvPr/>
        </p:nvSpPr>
        <p:spPr>
          <a:xfrm>
            <a:off x="2446560" y="2450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中枢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3132000" y="863640"/>
            <a:ext cx="396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动脉血中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CO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升高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3059280" y="205956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0000"/>
                </a:solidFill>
                <a:latin typeface="隶书"/>
                <a:ea typeface="隶书"/>
              </a:rPr>
              <a:t>H</a:t>
            </a:r>
            <a:r>
              <a:rPr b="1" lang="en-US" sz="2000" spc="-1" strike="noStrike" baseline="30000">
                <a:solidFill>
                  <a:srgbClr val="fd0000"/>
                </a:solidFill>
                <a:latin typeface="隶书"/>
                <a:ea typeface="隶书"/>
              </a:rPr>
              <a:t>+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6262920" y="23788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外周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15" name="Group 16"/>
          <p:cNvGrpSpPr/>
          <p:nvPr/>
        </p:nvGrpSpPr>
        <p:grpSpPr>
          <a:xfrm>
            <a:off x="2971800" y="5475240"/>
            <a:ext cx="1752120" cy="564840"/>
            <a:chOff x="2971800" y="5475240"/>
            <a:chExt cx="1752120" cy="564840"/>
          </a:xfrm>
        </p:grpSpPr>
        <p:sp>
          <p:nvSpPr>
            <p:cNvPr id="316" name="Freeform 17"/>
            <p:cNvSpPr/>
            <p:nvPr/>
          </p:nvSpPr>
          <p:spPr>
            <a:xfrm>
              <a:off x="2971800" y="547524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7" name="Freeform 18"/>
            <p:cNvSpPr/>
            <p:nvPr/>
          </p:nvSpPr>
          <p:spPr>
            <a:xfrm>
              <a:off x="3556080" y="5479200"/>
              <a:ext cx="583560" cy="56088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8" name="Freeform 19"/>
            <p:cNvSpPr/>
            <p:nvPr/>
          </p:nvSpPr>
          <p:spPr>
            <a:xfrm>
              <a:off x="4139640" y="547920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9" name="Text Box 20"/>
          <p:cNvSpPr/>
          <p:nvPr/>
        </p:nvSpPr>
        <p:spPr>
          <a:xfrm>
            <a:off x="3635280" y="3357720"/>
            <a:ext cx="3600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d0000"/>
                </a:solidFill>
                <a:latin typeface="Arial"/>
              </a:rPr>
              <a:t>呼吸中枢兴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0" name="AutoShape 21"/>
          <p:cNvSpPr/>
          <p:nvPr/>
        </p:nvSpPr>
        <p:spPr>
          <a:xfrm>
            <a:off x="3635280" y="1484280"/>
            <a:ext cx="576360" cy="1008000"/>
          </a:xfrm>
          <a:prstGeom prst="downArrow">
            <a:avLst>
              <a:gd name="adj1" fmla="val 50000"/>
              <a:gd name="adj2" fmla="val 43723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中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枢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1" name="AutoShape 22"/>
          <p:cNvSpPr/>
          <p:nvPr/>
        </p:nvSpPr>
        <p:spPr>
          <a:xfrm>
            <a:off x="6012000" y="1413000"/>
            <a:ext cx="576000" cy="1008000"/>
          </a:xfrm>
          <a:prstGeom prst="downArrow">
            <a:avLst>
              <a:gd name="adj1" fmla="val 50000"/>
              <a:gd name="adj2" fmla="val 4375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外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周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2916360" y="1413000"/>
            <a:ext cx="64908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d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3" name="AutoShape 24"/>
          <p:cNvSpPr/>
          <p:nvPr/>
        </p:nvSpPr>
        <p:spPr>
          <a:xfrm>
            <a:off x="3492360" y="1700280"/>
            <a:ext cx="216000" cy="57636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140360" y="1628640"/>
            <a:ext cx="936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0000"/>
                </a:solidFill>
                <a:latin typeface="Arial"/>
              </a:rPr>
              <a:t>主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2268360" y="2997360"/>
            <a:ext cx="1295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</a:rPr>
              <a:t>时间延迟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6" name="AutoShape 27"/>
          <p:cNvSpPr/>
          <p:nvPr/>
        </p:nvSpPr>
        <p:spPr>
          <a:xfrm>
            <a:off x="3419640" y="2997360"/>
            <a:ext cx="1368360" cy="57600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7" name="AutoShape 28"/>
          <p:cNvSpPr/>
          <p:nvPr/>
        </p:nvSpPr>
        <p:spPr>
          <a:xfrm>
            <a:off x="6732720" y="2924280"/>
            <a:ext cx="647640" cy="1081080"/>
          </a:xfrm>
          <a:custGeom>
            <a:avLst/>
            <a:gdLst>
              <a:gd name="textAreaLeft" fmla="*/ 86760 w 647640"/>
              <a:gd name="textAreaRight" fmla="*/ 560880 w 64764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6443640" y="1268280"/>
            <a:ext cx="2521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作用去除，效应仅下降</a:t>
            </a:r>
            <a:r>
              <a:rPr b="1" lang="en-US" sz="2000" spc="-1" strike="noStrike">
                <a:solidFill>
                  <a:srgbClr val="fd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9" name="AutoShape 30"/>
          <p:cNvSpPr/>
          <p:nvPr/>
        </p:nvSpPr>
        <p:spPr>
          <a:xfrm>
            <a:off x="4500720" y="4149720"/>
            <a:ext cx="142560" cy="863640"/>
          </a:xfrm>
          <a:prstGeom prst="downArrow">
            <a:avLst>
              <a:gd name="adj1" fmla="val 50000"/>
              <a:gd name="adj2" fmla="val 151452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30" name="Group 31"/>
          <p:cNvGrpSpPr/>
          <p:nvPr/>
        </p:nvGrpSpPr>
        <p:grpSpPr>
          <a:xfrm>
            <a:off x="6443640" y="4437000"/>
            <a:ext cx="990360" cy="1750320"/>
            <a:chOff x="6443640" y="4437000"/>
            <a:chExt cx="990360" cy="1750320"/>
          </a:xfrm>
        </p:grpSpPr>
        <p:sp>
          <p:nvSpPr>
            <p:cNvPr id="331" name="Freeform 32"/>
            <p:cNvSpPr/>
            <p:nvPr/>
          </p:nvSpPr>
          <p:spPr>
            <a:xfrm>
              <a:off x="6443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2" name="Freeform 33"/>
            <p:cNvSpPr/>
            <p:nvPr/>
          </p:nvSpPr>
          <p:spPr>
            <a:xfrm>
              <a:off x="6773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3" name="Freeform 34"/>
            <p:cNvSpPr/>
            <p:nvPr/>
          </p:nvSpPr>
          <p:spPr>
            <a:xfrm>
              <a:off x="7103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34" name="Group 35"/>
          <p:cNvGrpSpPr/>
          <p:nvPr/>
        </p:nvGrpSpPr>
        <p:grpSpPr>
          <a:xfrm>
            <a:off x="7451640" y="4437000"/>
            <a:ext cx="990360" cy="1750320"/>
            <a:chOff x="7451640" y="4437000"/>
            <a:chExt cx="990360" cy="1750320"/>
          </a:xfrm>
        </p:grpSpPr>
        <p:sp>
          <p:nvSpPr>
            <p:cNvPr id="335" name="Freeform 36"/>
            <p:cNvSpPr/>
            <p:nvPr/>
          </p:nvSpPr>
          <p:spPr>
            <a:xfrm>
              <a:off x="7451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6" name="Freeform 37"/>
            <p:cNvSpPr/>
            <p:nvPr/>
          </p:nvSpPr>
          <p:spPr>
            <a:xfrm>
              <a:off x="7781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7" name="Freeform 38"/>
            <p:cNvSpPr/>
            <p:nvPr/>
          </p:nvSpPr>
          <p:spPr>
            <a:xfrm>
              <a:off x="8111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633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H+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对呼吸运动的影响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加深加快      肺通气量增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敏感性较外周化学感受器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透过血脑屏障的速度较慢，限制其作用。脑脊液中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才是中枢化学感受器的最有效的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341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665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2" name="Line 6"/>
          <p:cNvSpPr/>
          <p:nvPr/>
        </p:nvSpPr>
        <p:spPr>
          <a:xfrm flipV="1">
            <a:off x="3060720" y="1412640"/>
            <a:ext cx="0" cy="431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115920"/>
            <a:ext cx="814716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（四）缺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0" y="1341360"/>
            <a:ext cx="9144000" cy="36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气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加深加快    肺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仅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才有调节作用，对正常呼吸的调节作用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降主要作用于外周化学感受器，缺氧对呼吸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枢的直接作用是抑制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适应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外周化学感受器的刺激在呼吸调节上起重要作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3276720" y="155736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6" name="Line 5"/>
          <p:cNvSpPr/>
          <p:nvPr/>
        </p:nvSpPr>
        <p:spPr>
          <a:xfrm flipV="1">
            <a:off x="8388360" y="148608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349236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8" name="AutoShape 8"/>
          <p:cNvSpPr/>
          <p:nvPr/>
        </p:nvSpPr>
        <p:spPr>
          <a:xfrm>
            <a:off x="622944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349" name="Picture 9" descr="5"/>
          <p:cNvPicPr/>
          <p:nvPr/>
        </p:nvPicPr>
        <p:blipFill>
          <a:blip r:embed="rId1"/>
          <a:stretch/>
        </p:blipFill>
        <p:spPr>
          <a:xfrm>
            <a:off x="228600" y="5638680"/>
            <a:ext cx="1081080" cy="93672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0"/>
          <p:cNvSpPr/>
          <p:nvPr/>
        </p:nvSpPr>
        <p:spPr>
          <a:xfrm>
            <a:off x="762120" y="5638680"/>
            <a:ext cx="53337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为什么低氧时不能吸入纯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C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、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和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H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之间的相互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2405160" y="928800"/>
            <a:ext cx="4538520" cy="52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与表面活性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肺泡的液－气界面所产生的表面张力的合力指向肺泡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200571010217468"/>
          <p:cNvPicPr/>
          <p:nvPr/>
        </p:nvPicPr>
        <p:blipFill>
          <a:blip r:embed="rId1"/>
          <a:srcRect l="0" t="7812" r="0" b="10048"/>
          <a:stretch/>
        </p:blipFill>
        <p:spPr>
          <a:xfrm>
            <a:off x="2843280" y="3098880"/>
            <a:ext cx="353052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228600"/>
            <a:ext cx="914400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肺泡表面活性物质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(Pulmonary surfactant)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肺泡</a:t>
            </a:r>
            <a:r>
              <a:rPr b="1" lang="en-US" sz="2800" spc="-1" strike="noStrike">
                <a:solidFill>
                  <a:srgbClr val="fd0000"/>
                </a:solidFill>
                <a:latin typeface="宋体"/>
              </a:rPr>
              <a:t>Ⅱ</a:t>
            </a:r>
            <a:r>
              <a:rPr b="1" lang="zh-CN" sz="2800" spc="-1" strike="noStrike">
                <a:solidFill>
                  <a:srgbClr val="fd0000"/>
                </a:solidFill>
                <a:latin typeface="宋体"/>
              </a:rPr>
              <a:t>型细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的二棕榈酰卵磷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用：降低肺泡的表面张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意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肺泡的稳定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肺间质和肺泡内的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织液生成，防止肺水肿发生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低吸气阻力，增加肺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顺应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952880" y="380880"/>
            <a:ext cx="4191120" cy="762120"/>
          </a:xfrm>
          <a:custGeom>
            <a:avLst/>
            <a:gdLst>
              <a:gd name="textAreaLeft" fmla="*/ 0 w 4191120"/>
              <a:gd name="textAreaRight" fmla="*/ 4191480 w 419112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24" name="Picture 7" descr="肺表面活性物质"/>
          <p:cNvPicPr/>
          <p:nvPr/>
        </p:nvPicPr>
        <p:blipFill>
          <a:blip r:embed="rId1"/>
          <a:stretch/>
        </p:blipFill>
        <p:spPr>
          <a:xfrm>
            <a:off x="4932360" y="2349360"/>
            <a:ext cx="4033800" cy="2952720"/>
          </a:xfrm>
          <a:prstGeom prst="rect">
            <a:avLst/>
          </a:prstGeom>
          <a:ln w="0">
            <a:noFill/>
          </a:ln>
        </p:spPr>
      </p:pic>
      <p:sp>
        <p:nvSpPr>
          <p:cNvPr id="125" name="Line 8"/>
          <p:cNvSpPr/>
          <p:nvPr/>
        </p:nvSpPr>
        <p:spPr>
          <a:xfrm>
            <a:off x="673272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673236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三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廓和呼吸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612720" y="1628640"/>
            <a:ext cx="2838600" cy="4095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呼吸运动胸廓运动的变化"/>
          <p:cNvPicPr/>
          <p:nvPr/>
        </p:nvPicPr>
        <p:blipFill>
          <a:blip r:embed="rId2"/>
          <a:stretch/>
        </p:blipFill>
        <p:spPr>
          <a:xfrm>
            <a:off x="3997440" y="1557360"/>
            <a:ext cx="4680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7-24T05:15:50Z</dcterms:modified>
  <cp:revision>128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